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741-D1E3-4CE4-AD44-753FB24C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AF4-30C7-446C-9621-D6A46E62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F66-9E52-4178-A547-C2990E6D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0CF-8DB9-49B0-9F42-E30357C7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E81D-7E40-47DB-B8B0-AAA52B32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A5A8-535E-4FDA-9D0E-CFA3CF1F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BCB7-847B-47FE-B8FB-A5454F88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C21F-84A0-412A-99C5-6A57CEFC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7FFC-5BD5-4E51-9E12-A306E060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B85F-02BF-4F15-9565-58A90A7C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A86A-8E09-4A97-B887-626F4E86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579-F79A-4E54-A894-52D41B6F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072A-7960-46C0-9095-F82A0D2C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CBE2-77BC-4E7B-9346-3C0CB64B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32E0-65FB-411C-A4AB-453B9CAD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2A60-8ADD-473E-96F9-B10FDA5E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0C10-6078-4384-9F35-03616A21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7FE-DDE7-434D-99B2-C772A74B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283-3FDF-4159-AFC2-46A1D9B0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74A-C211-4FCF-AA2D-02B85183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88A-6345-4367-9ECB-CDCD8403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688-40F7-4639-AD31-CD6BF297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43F-156B-4A0C-B119-F7345219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C51-64FD-435E-8F79-0D7CB720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425C-59FA-49AB-967B-DD3B93F833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D919-352A-49E5-8363-01AD133053A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03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odelos de Opciones exót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239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437000"/>
            <a:ext cx="7618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66"/>
                </a:solidFill>
                <a:latin typeface="Tahoma"/>
              </a:rPr>
              <a:t>NOTA: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0066"/>
                </a:solidFill>
                <a:latin typeface="Tahoma"/>
              </a:rPr>
              <a:t>ESTA PRESENTACIÓN INDICA AL USUARIO COMO INSTALAR LOS COMPLEMENTOS NECESARIOS PARA EL CORRECTO FUNCIONAMIENTO DE LAS HOJAS DE CÁLCULO CORRESPONDIENTES A LA SECCIÓN DE OPCIONES EXÓTICAS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1" name="uno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Opciones exóticas (VI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84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ra el correcto funcionamiento de estas hojas es necesario tener activados los complementos Herramientas para análisis, Herramientas para análisis-VBA y Solve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proceso de instalación es el siguien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bra Microsoft Excel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inche en el menú Herramientas/Complemento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Seleccione Herramientas para análisis, Herramientas para análisis-VBA y Solver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VER LOS PASOS EN LAS SIGUIENTES DIAPOSITIV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1" name="uno" descr=""/>
          <p:cNvPicPr/>
          <p:nvPr/>
        </p:nvPicPr>
        <p:blipFill>
          <a:blip r:embed="rId4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41C-79F9-4910-931C-3C0DC655B2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Opciones exóticas (VII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274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so 1: haga clic en herramientas/Complemen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7134120" cy="1486080"/>
          </a:xfrm>
          <a:prstGeom prst="rect">
            <a:avLst/>
          </a:prstGeom>
          <a:ln w="0">
            <a:noFill/>
          </a:ln>
        </p:spPr>
      </p:pic>
      <p:pic>
        <p:nvPicPr>
          <p:cNvPr id="255" name="uno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E0D-900A-44BE-969B-687BD321A1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Opciones exóticas (VIII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3840" y="1699920"/>
            <a:ext cx="727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so 2: haga clic en herramientas/Complemen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050920" y="2349360"/>
            <a:ext cx="4392720" cy="2968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84360" y="5229360"/>
            <a:ext cx="75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so 3: Seleccione Herramientas para análisis, Herramientas para análisis-VBA y Solver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16000" y="378936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306864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285264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uno" descr=""/>
          <p:cNvPicPr/>
          <p:nvPr/>
        </p:nvPicPr>
        <p:blipFill>
          <a:blip r:embed="rId4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5C2-7CA5-492A-8EEB-54D800BE1D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66"/>
                </a:solidFill>
                <a:latin typeface="Tahoma"/>
              </a:rPr>
              <a:t>Desinstalación de complementos (I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53840" y="1699920"/>
            <a:ext cx="727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Si desea desinstalar los complementos pinche en Herramientas/Complement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7134120" cy="1485720"/>
          </a:xfrm>
          <a:prstGeom prst="rect">
            <a:avLst/>
          </a:prstGeom>
          <a:ln w="0">
            <a:noFill/>
          </a:ln>
        </p:spPr>
      </p:pic>
      <p:pic>
        <p:nvPicPr>
          <p:cNvPr id="267" name="uno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EC8-E170-44B1-A6DE-E7C6083557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0066"/>
                </a:solidFill>
                <a:latin typeface="Tahoma"/>
              </a:rPr>
              <a:t>Desinstalación de complementos (II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3840" y="1699920"/>
            <a:ext cx="727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inche en el cuadro para su desinstal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411280" y="2565360"/>
            <a:ext cx="4392720" cy="2968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476360" y="400536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76360" y="328464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76360" y="306864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76360" y="378936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4200" y="5516640"/>
            <a:ext cx="7273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inche en Aceptar para finaliz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6" name="uno" descr=""/>
          <p:cNvPicPr/>
          <p:nvPr/>
        </p:nvPicPr>
        <p:blipFill>
          <a:blip r:embed="rId4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31D-AF6F-45FB-B6E7-F5F7EC5860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835280" y="1915920"/>
            <a:ext cx="6318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os contenidos han sido elaborados p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ósper Lamothe Fernández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iguel Pérez Soma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n la colaboración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rturo Labanda Puer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8" name="uno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2C8-701D-40AD-A3CA-88B2FF70FF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Los aspectos tratados en los modelos contenidos en esta sección de la presente OLC, aspiran a proporcionar una comprensión de los fundamentos teóricos subyacentes en las opciones financieras, permitiendo desde efectuar un análisis de sensibilidad hasta valorar diversas opciones exót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Las hojas de cálculo permitirán al lector comprender mejor las opciones tratadas en el libro, así como conocer el modelo de valoración para cada una de ell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uno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CED-9FB3-477C-B651-FDD8F7AA98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spectos prelimin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74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 los efectos de habilitar su funcionamiento, Excel le preguntará al abrir la hoja de cálculo, sí se desea habilitar las macros, debiendo de habilitarl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995640" y="4365720"/>
            <a:ext cx="3959280" cy="2019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514600" y="3429000"/>
            <a:ext cx="3209760" cy="259236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uno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B46-D9A9-4C3A-85D7-65632655A9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eldas modificab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7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n las hojas de cálculo se pueden modificar aquellas celdas que están dentro del cuadro inpu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3527280" cy="281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84360" y="4508640"/>
            <a:ext cx="3743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uno" descr=""/>
          <p:cNvPicPr/>
          <p:nvPr/>
        </p:nvPicPr>
        <p:blipFill>
          <a:blip r:embed="rId4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74C-3B45-468C-A64B-560EFD3F76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Opciones exóticas (I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7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Las hojas de cálculo de la sección modelos de opciones exóticas, tienen todos los cálculos para la valoración de las opciones situados en las celdas inmediatamente inferiores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58920" y="3068640"/>
            <a:ext cx="2943360" cy="2457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V="1">
            <a:off x="4067280" y="4508640"/>
            <a:ext cx="1368360" cy="72072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0022600">
            <a:off x="3915000" y="4779720"/>
            <a:ext cx="209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Cálculos intermedi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651640" y="3860640"/>
            <a:ext cx="2800080" cy="1086120"/>
          </a:xfrm>
          <a:prstGeom prst="rect">
            <a:avLst/>
          </a:prstGeom>
          <a:ln w="0">
            <a:noFill/>
          </a:ln>
        </p:spPr>
      </p:pic>
      <p:pic>
        <p:nvPicPr>
          <p:cNvPr id="231" name="uno" descr=""/>
          <p:cNvPicPr/>
          <p:nvPr/>
        </p:nvPicPr>
        <p:blipFill>
          <a:blip r:embed="rId4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C93-57FB-431D-8E6D-11EBF6AB4B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Opciones exóticas (II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ara el correcto funcionamiento de algunas hojas de cálculo de las incluidas en esta sección es necesario instalar un Add-in gratuíto (Nt-Rand.xll) que puede bajarse en http://www.numtech.com/NtRand/index.ht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ste complemento de excel se utiliza simplemente para calcular la probabilidad de un distribución normal bivariant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l proceso de instalación es el siguiente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lnSpc>
                <a:spcPct val="13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Abra Microsoft Excel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lnSpc>
                <a:spcPct val="13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Pinche en el menú Herramientas/Complement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lnSpc>
                <a:spcPct val="13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En este menú, pinche en examinar y busque el Add-in que ha bajado anteriormente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VER LOS PASOS EN LAS SIGUIENTES DIAPOSITIV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uno" descr=""/>
          <p:cNvPicPr/>
          <p:nvPr/>
        </p:nvPicPr>
        <p:blipFill>
          <a:blip r:embed="rId5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B21-FA56-4A61-A6AF-87FACA7CC2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Opciones exóticas (III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7134120" cy="14857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129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aso 1: haga clic en herramientas/Complement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uno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D24-D470-4406-9FB1-86C9100FCF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Opciones exóticas (IV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6481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aso 2: haga clic en examina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6551640" cy="451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564000" y="4508640"/>
            <a:ext cx="36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Busque el archivo NtRand en su ordenador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ara finalizar pinche en ACEPT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3" name="uno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262-49D5-4D18-925B-750414480C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Opciones exóticas (V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77058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3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uando abra Excel, aparecerá la siguiente ventana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6021360"/>
            <a:ext cx="7705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3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En Add-in estará bien instal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619280" y="2044800"/>
            <a:ext cx="5761080" cy="3905280"/>
          </a:xfrm>
          <a:prstGeom prst="rect">
            <a:avLst/>
          </a:prstGeom>
          <a:ln w="0">
            <a:noFill/>
          </a:ln>
        </p:spPr>
      </p:pic>
      <p:pic>
        <p:nvPicPr>
          <p:cNvPr id="248" name="uno" descr=""/>
          <p:cNvPicPr/>
          <p:nvPr/>
        </p:nvPicPr>
        <p:blipFill>
          <a:blip r:embed="rId4"/>
          <a:stretch/>
        </p:blipFill>
        <p:spPr>
          <a:xfrm>
            <a:off x="3240" y="0"/>
            <a:ext cx="9140760" cy="1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elos de Opciones exóticas - present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88C-DD6B-4755-A6CD-7DC1E99BDD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9:23:47Z</dcterms:created>
  <dc:creator>Arturo Labanda</dc:creator>
  <dc:description/>
  <dc:language>en-US</dc:language>
  <cp:lastModifiedBy>yolanda_mateo</cp:lastModifiedBy>
  <dcterms:modified xsi:type="dcterms:W3CDTF">2003-09-29T12:06:47Z</dcterms:modified>
  <cp:revision>45</cp:revision>
  <dc:subject/>
  <dc:title>Hojas de cálculo</dc:title>
</cp:coreProperties>
</file>